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3C8D-44D5-426F-BA0F-207D816365D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f the 200 Gurindji stockman who worked on Wave Hill cattle s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Wave hill Walk off was a  big event that had happened in August 196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t was a group of aboriginal people who went on something like a strik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00 Gurindji stockmen and their fami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orkers, children, families walked away from what they got sick of.. And what wasn’t r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Wave Hill Walk of happened at wave hill cattle station in Northern Terri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y were exploited on  the station since it was established by a British company, Vesteys, in 1880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aboriginal camped out Wattie Creek, which they later called Dagurag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200 men, women and children decided to walk of off the Wave Hill cattle station. The strike lasted for nine years, from 1966 until 197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ader Vincent Lingiari took 200 workers and walked of, they did this because the Aboriginals felt they weren't getting treated fai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get paid a good amount, mistreatment and poor working conditions became a campaign for Aboriginal righ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The Gurindji people eventually won their fight. It was in 1975 that they got there land, it was officially handed back to then by the Labour Prime Minister Gough Whitl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Today the wave hill walk–off is regarded by many as the beginning of the modern Aboriginal Land rights m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AE4-9545-488B-B899-8FEDA6E0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27A-774A-4EB0-B229-A9E961CA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52B-0D00-42F9-B25D-9D0CCE56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F4B-4910-4086-B2CB-1F34645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4F8-8A38-4BB9-B1D5-8A744B5C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6B8-7BE5-4B56-AB71-50EF922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34E-1F12-413B-BD04-6ECDE518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2D57-C363-470F-98D9-C34C3718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67C-7ED3-4C36-8C1E-BDA4D520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FA4-6F79-44C0-9AE3-ECA9E12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795-72AF-49AC-A2AE-14C8541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56C-1719-4888-950F-C8D6448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982D-88AC-4467-A9E2-FC9859220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765000"/>
            <a:ext cx="745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Edwardian Script ITC"/>
              </a:rPr>
              <a:t>Wave Hill Walk - O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Edwardian Script ITC"/>
              <a:ea typeface="Edwardian Script ITC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8028000" cy="26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2133720"/>
            <a:ext cx="5329440" cy="39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Aleksandra and Anka 9P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692280"/>
            <a:ext cx="410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alk O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413000"/>
            <a:ext cx="604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96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Gurindji stock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5290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68360" y="333360"/>
            <a:ext cx="424044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ave Hil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060640"/>
            <a:ext cx="331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ttle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rthern Terri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stey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ttie Cr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19640" y="2619360"/>
            <a:ext cx="50418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940360" y="4869000"/>
            <a:ext cx="2879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How?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476280"/>
            <a:ext cx="83534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roup of 200 Aborigina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 Hill cattle stati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6 until 1975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7545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43280" y="1989000"/>
            <a:ext cx="34574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adder ITC"/>
              </a:rPr>
              <a:t>Who &amp; Why?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adder ITC"/>
              <a:ea typeface="Blackadder ITC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620640"/>
            <a:ext cx="712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cent Lingi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941720"/>
            <a:ext cx="727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working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iginal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2924280"/>
            <a:ext cx="244764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916360" y="404640"/>
            <a:ext cx="5435640" cy="16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lackadder ITC"/>
              </a:rPr>
              <a:t>In the End..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lackadder ITC"/>
              <a:ea typeface="Blackadder ITC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637000"/>
            <a:ext cx="83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 their f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ur Prime Minister Gough Whitl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 hill walk–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574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30:12Z</dcterms:created>
  <dc:creator>Reservoir District Secondary College</dc:creator>
  <dc:description/>
  <dc:language>en-US</dc:language>
  <cp:lastModifiedBy>Reservoir District Secondary College</cp:lastModifiedBy>
  <dcterms:modified xsi:type="dcterms:W3CDTF">2008-06-05T02:43:10Z</dcterms:modified>
  <cp:revision>7</cp:revision>
  <dc:subject/>
  <dc:title>Slide 1</dc:title>
</cp:coreProperties>
</file>